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D8E7-89FF-4A02-8C65-073CD5C0B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047C-8D60-4708-A0DC-A6AFC6CF3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A7E4-B850-4B75-BE99-84D70B68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0CE4-CB7B-4BB5-91F4-8F34CC3FD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1734-168A-4E6F-9E3A-00117AEAB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C903-7BE9-42F1-A385-9B898C3E6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72FA-AFA8-40BD-AB81-573CCFD74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99EB-B186-4CD7-82CF-1B12DB7CB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7920" y="-3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AD64-1EA7-445F-B874-16B00433D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DC7B-FF31-4EA9-88BE-5B9F65B33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93A1-33EB-4691-8BA5-68ED5C0A2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32FB-9145-4B0A-A516-6137AB950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29B-63A4-4665-810D-9DC93F12D2C3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7000" y="-360"/>
            <a:ext cx="6251400" cy="1219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: Roofing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638680"/>
            <a:ext cx="8597880" cy="749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enefits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 (quantify the effects on the following for the homeowner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ALTH: NA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STAINABILITY: Met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ST: Depends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RABILITY: Met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184320" y="1268280"/>
            <a:ext cx="8458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ackground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Roofs, like other parts of a house, can be a cost saver for a family if done correctly. Here are some tips when choosing a roof for a HFH house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5627520" y="3498840"/>
            <a:ext cx="1955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260280" y="1827360"/>
            <a:ext cx="41022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Objective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termine the components of a roof that saves a home owner mone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termine which type of roof is bes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indings/Solution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lar reflectance (SR), Thermal emittance (TE), Solar reflectance index (SRI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tal vs. asphalt shingl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7080" y="1765440"/>
            <a:ext cx="1822320" cy="364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16800" y="1778040"/>
            <a:ext cx="18158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0F87-799F-4D8A-A11E-4443681D817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Wells</dc:creator>
  <dc:description/>
  <dc:language>en-US</dc:language>
  <cp:lastModifiedBy/>
  <cp:revision>0</cp:revision>
  <dc:subject/>
  <dc:title>Slide 1</dc:title>
</cp:coreProperties>
</file>